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D0B8-D078-4614-82A6-01C176FE47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A676-5975-4EFB-A07E-A7F786C8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3CCE1B-56A7-46D6-8753-6EA1B017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9C0F3E-22E7-4680-9E66-4365CD81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892259-F7A6-4D05-A2A9-57608017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F708C4-E7F2-4C81-9D8B-7906D637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AE1DF-3B68-42E0-90C6-5087DE6E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9EBFCF-07A7-4D83-9661-4326DC4A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6119B5-09B6-4ABF-8445-9FF70D90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38B3AB-834A-4753-8005-6944599A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77E2B3-5910-4135-AA5F-6C326FFE99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C7172-6639-4FDF-80B0-BD49C153A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02BE-8CA7-4886-81D4-CDEF8D98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14E02-3675-4044-BC22-F73D788E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4D23A-A8C2-4AB7-AFF9-97C419F9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58466-EC9B-42A1-81B2-4B7F8FBB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A6755-02EA-414A-B120-4D592B59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0148A-348C-4624-B475-C8ED14C8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A8BC0-CE70-4D60-ADE5-F3F4FE40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BF727-E162-4273-9665-1638F2A2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0850A-A594-4E64-B4B0-0F119297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13833-D890-4A80-AFDA-9E1F4BEF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51A7F-EE05-4291-85F6-3C258CE6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5959-CB1C-411D-872A-A20D25DFB3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68326-39DB-4F97-BA98-E2EE9E61BE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7C5488-6FB0-4679-81FB-5B73B4BC19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BD0175-B3E7-43CA-9E3A-E64AD582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7B26F7-EBD8-4493-8425-7AEF3EE2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658D5E-2779-45AF-96B2-32483376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84163F-304C-4AA1-8D8E-C4D7370E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44C7A0-FB06-40C4-847A-1CECB85F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9AB0ED-5215-4519-8F05-0A7BEFC8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8214B7-DB54-4E39-873C-DFD05DF6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58D675-CE64-42D7-A7F6-F871717A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96850-30D2-4B67-B18A-A34397D8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8CD6D3-8825-4E56-8652-8DE81CCC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023FE6-AA45-4D02-9C71-3E58D8C5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5E1024-36E5-4DA9-AFAA-A361204FD0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34A16-C598-4D9A-9DC3-1B2043A95F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BB54D-89DF-4A1A-976F-AD354819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653C9-7BAB-4C74-9863-3CA9DDF5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F6E59-BE87-4B17-8608-56B389E5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9B58F-2CDF-4409-A398-AA7D1DFB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DC640-04F5-4961-B5F9-C1F8B820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AFCFF-5AB9-4052-9B32-AA3BB2B5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98DD9-352F-4FDD-8BC1-E0364EED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9ECFF-A653-4F68-892F-1C865918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9A0EF-26EE-447A-9A15-3A00BB91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710CC-3536-4E23-A772-C2C20AB3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2D6E7-E898-420B-A198-93F42EEC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E5EB1-77B6-46F5-99C4-083FBEF6AE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2E86B-7AA0-4A81-82DF-9DFEA07907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6CE47-6C4C-4D07-9702-786DCFA5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E8D32-C293-4EE4-B7B2-273A264E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2CE5F-4350-407F-BEC8-8A465ABB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E72DC-2FCC-4F98-81D6-8D3E3CFA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E39DA-7078-493C-94A8-D1F02789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B14A3-CE36-419A-B3EC-19FB3E9B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B7459-6400-47E6-A100-7F7D06FB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B46FE-0FCF-4CB1-B2D5-FFFAA674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303D0-8C2C-49ED-8E6E-22C1DC47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A3A79-CD20-4660-A91E-35C0A420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5E174-149D-4CDE-921C-0D2BBD1E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A723F-A5CB-4F97-8CB6-E3DA62EBC5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0AC6B-5C67-4B69-8C6E-ECED2D68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A92F1-7962-4680-BA6E-730BB32E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8257E-A6B3-460E-8CF3-49CA0899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42CB8-99A1-42AF-9528-C52B0A13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C822D-89C8-4C2F-A858-147DB03C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8777E-7B15-44EF-8EC8-BB515AA5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60E8D-5EA2-4A40-9847-6086C1FE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73143-9DA4-418C-8282-FE52FB56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94750-F3E9-4C8F-9818-66F9C758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DC16A-EC8F-457B-B7DF-B725F464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B9715-964B-4674-A15E-37767153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C2906-CECC-41BA-BB55-95B4686B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C2FE1-44EE-4B79-BBF3-46F3BD66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85DD9-6437-4A88-A094-DEC90401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B5CAF-16F2-4044-95B5-3056AE9E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DB464-C6B2-43B5-B168-B55BAB95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4E7D8-7964-4D33-BFA2-2D80A121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17D2A-8481-4C6C-879D-ECAB2077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F2D06-6E4C-4440-9236-36A45C9F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58D6B-6D05-4BD0-A482-421CC9C8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06F0B-9F58-4D36-8A43-EB716876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C6CB3-3645-450A-B2BF-C46B70C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EC0AD-EE0B-41EA-BA67-7931D991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569C1-DDF0-45A5-8926-8DD9815D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46B5D-3174-48D4-8F9F-AB8BECCD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B1D36-FB4E-4EF3-9EF9-9F371475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F2258-8EAE-4D84-9EE6-2085441D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990FF-2E9D-4BA2-A9CF-6DF86EEE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3457A-CA89-43CE-809C-A95927D8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2731D-87BB-4D2E-972A-12ED0199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D1CCC-BEFF-4579-ACF4-6F6D52F8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31055-F398-4AF6-9592-4359C924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B91E9-6D89-4A8D-B822-1C0E07BC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D57F6-6C95-4978-9201-EFAC69C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83576-7289-4D8E-A775-41025895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7B78B-7285-4AC6-A91E-ADD44F43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2D75C-8755-4E9E-99CD-9D26BC0D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CBB05-EBDF-46D8-9D87-DDA95BAC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9EF25-6F85-4A8D-A9F1-77ECD4BB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68C6B-5C81-4470-85B0-B0B42158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8F2D9-BFD9-489F-B02E-44CEDE9E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0D6BC-55C2-435F-B982-81B6EAE1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E95DB-D116-4090-ADFE-CBF62A6E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9034A-CB00-4EB3-9AD1-13110CB2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4FC4E-E8C1-4435-988D-576497F4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13C67-C572-4DC3-AF5C-262A8C2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47C56-7EE0-40FF-BCF5-2FD739D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5ADA-1099-40BF-BFDA-33413058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53C2C-43B9-46C4-A66B-B5FD1788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94373-8F4F-4F25-B0A9-0A6F325F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81ED7-A0E5-48D5-8330-7D58A346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FC015-9D93-43AE-BCF6-A5E4AA7E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6AC91-CE2E-4589-A44D-5A038783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3ECC0-D14B-47CC-A77C-D7E1E106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CB49D-A772-4A77-96C6-8E67DD92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E0068-810A-4FAB-A7F3-6A3AFFAB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06039-03EC-4A93-BE0B-878E6095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EE11D-5510-407D-959E-091EC7AD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5D88D-DFB1-488B-BF52-4D0E16EC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94BD2-0F7F-4AB1-BFA9-1F7203F7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5B5A2-E611-4480-B250-2E96B839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8953F-371E-4710-9C8E-F738D69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FDE1C-AFB9-404F-8E68-4A4DB64B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8DB6A-E63C-4964-9F83-DC7243CB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5A24D-DD94-4DBD-B369-F50B902C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506DF-2520-4FBA-8FF6-99EC4805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43DEF-B512-409A-81E1-631580A7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18FC7-D408-4A66-B794-289862E7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1CC3A-D27F-4972-9DA2-CC3A0888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62630-D9D4-492B-B0A7-BD3BCC9A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52CAC-DFD0-47C1-A91D-B3D6FD30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75004-FB33-45CF-8A3D-660DBA1A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4B9830-096C-4F46-AD6A-D2F32D5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BEDE3-5E5E-464D-9949-52BF6688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ACE98-FE1B-439A-9F46-EBDA7A1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2B3832-4FE6-427C-AA44-F540422E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53B7E-D24E-4E53-9CB9-6D95CC29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D3291-4790-4326-B27C-F4B84779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4A727-AC0A-4826-B576-5E4E841E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5BE6D-F355-48AA-AC7E-E832CEA7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B4392-AD85-45BB-9699-19E830CC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EF99A-D0EF-4E0D-8467-3E3D89B6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59353-7B8E-45A0-92F0-7F1AD53E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E919E6-F84E-4A03-A328-CCA44312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CEFD6-C929-4AE9-B24C-5906FB74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52F2E-DDB6-4765-A912-180F8EAB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9FE17-60F9-450D-933B-FB8CCC7E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73BF0F-2123-4A14-B855-922793E0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AB06C-A13A-46FC-8550-CA7ED1E5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259BF-8C45-4833-95BC-511CBA8C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69C7F-3796-4D25-B220-DECD278C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95CB48-A6DD-4056-81EA-2C1AD7EA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73CEE-D9ED-4039-A7FC-5A848FE4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03CB5-3F88-4F45-B4FD-5FD598DE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EF176-7447-4B9C-9C80-BA063233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E6DBD5-A497-4865-9724-A2F49503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45953-9ADA-4E8B-8D96-67BD61FD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D0DABB-F794-4AC6-B24A-61A1FFD8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E47D54-2885-4216-83A5-E1DA5E8F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1DC2E-BDB6-4EB9-94EA-2D0922C3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202523-4B15-44F6-8C7C-6DE876D6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BBA96-DF55-4C95-85DA-D6D64ED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DDE4C-D96C-41E4-A2C1-A852D6F7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A7AC38-3477-488C-9EBE-7C2E7F4E5F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25B4E-0309-4741-A129-AD7E09D1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CAA928-C427-483B-9C9F-5C1F5EA5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BEF2B-8F8F-40B8-93A9-E2C6869B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AB9D41-8B1A-467B-A41F-F1FA686A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F627FB-2E6F-413D-B92E-56FB585C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132C4C-3F12-472D-A0BD-8D671768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16916-0BDC-47F0-A1FD-2C33BCF4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69E62A-70FE-4E73-86C9-71298337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1E9F5-B274-4F4C-907C-E6C21FF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2A8A0-7CF1-4D25-B5AA-AD60AE1E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DCBD8-B4F1-4B65-B8B1-A9526D58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545EAC-4D59-4526-84FD-C6DB922E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3612B4-5DFC-453C-9949-69890E2E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425D17-3301-45AC-92B6-C34FF5AD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0BB1E2-6397-46DD-A072-9483898D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FA70C-3AD1-4D08-9004-4DB83CD1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D70C25-8B23-4A29-B8AF-C00A8A83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FD9D0-10DA-4DE5-8CAE-03E169A3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EDCA14-0698-4A71-9C2C-5DC53397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1789CF-ACC4-4092-906E-A33438A7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3815C0-E489-44F1-87F9-E64E10F5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33A5D9-C9F3-4D86-85EB-D730F9D7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A3960C-5319-4CEF-AEF4-9B6941E3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767BF9-5035-4BB9-8232-A0F5EF3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69F0D-A219-4449-B044-34C37FF0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75B9B-FC0D-4B9D-B81D-6676C184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B2D030-2D91-40DB-A05A-A390CE28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6E148-E58D-4E1A-B384-3D955E9B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9737A-CD4E-49FC-A6FB-FDB20BFC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5F0E04-EE53-4AAC-94AA-CAC3A9B1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A2EAB7-54D8-4DF6-8371-4B3680B1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0ABA1D-639C-4E23-8C3D-78310040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4F546C-2BB4-430E-A635-EE296C02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54717-3559-49A4-A3A5-51B804B1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F678CF-3BDA-49CF-AB9A-99953697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FF061-587D-415F-B4CA-62FA7962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19024-E947-42E7-87AD-CE423B64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F571B-7AE1-4E4A-B949-E6F2488C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5893AF-4369-4F1F-8B88-9E0BB938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30517C-2E8B-4410-859B-4DE817CB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106200-BDC0-4AA7-BC80-FA5C97D8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BB6A5-CD91-480A-9CBF-45127FF6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109266-6479-4723-BD12-74F2C593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A5FE-97C6-43CE-BF79-E46D720D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B740A-6085-45D1-AAF0-07C563F6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B727E-5BA9-482D-A89D-C6FB4F48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870CC2-1823-419E-BCB3-59085DA0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87730-5E8A-4EFE-944E-10069761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64D9C1-D144-4DE5-B5F7-01654191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E7A003-E327-4DB1-9CAB-36D0309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1BF45-3A68-43C3-9BA8-C5908F66CE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D572-553E-4719-B1A4-38239B6648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FBC3-CD5E-487F-8FA4-7CE0CD9A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3F35-B9FE-4AED-8DE2-FC83B09D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FDCE-7C4A-4863-A8F5-7DCE2D00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7965C-568B-4CAE-BFC6-642C3129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0D38-3EC4-4FDF-A554-5430B0BB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97FF-6154-4672-8316-5E5A70D1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63FF-5778-4313-9821-276A466E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1516-17B9-4380-B44C-A850C4B4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FE10-28A3-4DE5-9956-FA56B89E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AE895-0010-4C2C-9FC7-6E1FC63E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F378-82B7-47D2-AE0A-ED94C331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3340-7231-4119-9119-40FFE582EB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A04B0-2F0F-4D64-87CA-F3BD913AE5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595B-A276-47DE-9189-09707225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C1C71-FEA2-4730-A8EA-6586C143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05EB4-08BF-4D9F-A0F7-DBA1BE7C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F00F1-937D-4682-A2F6-B245A5B7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84C03-9825-44FA-A8D6-800E50F7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ADCC0-D106-4DDC-8892-96967C6C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A47B0D-E3AA-4598-9687-4990F634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80646-4F80-47A1-8E93-1FE165AA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7D4FF-1845-4C8F-AF5E-07138AD0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587E3-A773-4ABC-BBF7-2546608B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20E1C9-3329-4279-8ABC-C9D94A9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EEFD-721D-4032-9281-12BBED04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6EFDDA-EE34-4129-A6F6-34EF7A011C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2CEA4F-6A4B-4490-831E-2C2496575A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8D8A4D-9D9C-4948-966C-5DB3348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02E07E-8624-43D4-8444-CB3E800E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BF9B00-330E-4F6B-96CD-1D993EE9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D43F7B-B3CD-4993-87A8-13E174AD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C28141-0906-4A96-A066-3ACC20BE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6858C1-E3EF-4798-A423-9654DE5A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25431A-AFEF-4099-9B63-86BE7766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C2831F-BD42-4D5C-82E1-C3C2644D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6DDA-17E7-447E-ABD3-E374C0E0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3F9669-1779-409F-A592-23A5494E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C114F6-7251-4862-A60A-C8B9C79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CF99F8-0EB0-431D-8E3F-1CCC84D2A6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07722-33B2-45C2-B8D5-2862B1BE4F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40FFF-4538-4727-96C5-4574543F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2936A-D0E5-4599-BA6A-677F44B7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68B92-F023-483C-957E-06A282A1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B5D2B-1E72-457E-8996-91F01DC2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1768-C22B-478B-B94B-A42B21D7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A2DD6-AE95-4FC7-B965-BEB78D7B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0C8C-94E8-4C7B-BBDC-C8DACC65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6EBCC-BE91-4C86-A897-9A4D02D9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1B8C0-6209-4A19-82A7-AF607F85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6A15-73C1-47F9-BD22-3432C9DA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A219D-F790-4778-8EAC-B0EE526E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AD549-B327-46BF-B2A0-5FAA528996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D2514C-A110-41CD-A5F2-2D728B9D08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B936C-5C19-4AF1-A7DC-7FA0A084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1508A-FE4E-49D6-8C04-156FAC3E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72695-609B-4347-B25F-D3BF80BB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F29A8-8D05-489E-8291-F6737323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9D4D-9AED-4A4E-952C-83A71CD5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A4A11-ADE2-454C-B825-41F8B17F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2E8A0-9DA2-42B6-9DE1-BE8E7396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4BB4B-4F30-4107-840A-4542908A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6C312-977B-4421-ACD5-FA7A4697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C78B5A-B64A-4B7E-8A06-A6D56C5B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581F48-BCD5-46FD-851E-AFBD854B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0FB5E-DFF4-4314-BD02-1143687E76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E2BCB5-0673-4648-B6C0-D1E117D857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D2BDF2-AC05-4B45-BB80-25D11C54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B551A-6F9B-4C1E-99FD-5FE2801E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307F-F283-461D-8B4E-818D62AA2E3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1CE1-4813-4137-B502-30AD31DCD43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BDEB-869D-419A-A7B3-F48DDCD0E3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206F-ABDC-4599-B518-0B8656BA8B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9D04-501D-40D6-8C82-32F6EC6491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8DB4-CAAF-46F1-92FB-FC3F933E5EE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721C-3D25-4ED2-8427-8C3C91DD4A6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251C-468B-4426-B3F9-2674512EFD3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68D2-F7D7-43BC-A8A7-B4FD387EAC8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76CA-5D7C-485A-B2F0-813C62F1855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D918-6C02-46D9-B408-FD40CDCB42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5333-B13E-413E-95DF-D108F4C1AC9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AA28-0554-4C61-A6A9-ECF16214639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AAFD-34FE-4216-8CC4-AD5AF874379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B127-23D0-44C8-950E-E3B998D3EC3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1942-82F8-4951-991C-AF27A62826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6CB1-77C8-46DE-A7CE-8DD438FB439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58D4-0B5D-4D51-97C3-50FC3F7E4EC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ACB3-22D6-4707-B741-4B5FEE4380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DD25-2A25-48D7-BB6B-5E1A12D16CD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5F7A-D736-46D3-BBDA-6DAEF93919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0935-D5AE-4033-8D1C-AC37ABDC9D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C749-32CF-4112-B85D-2E7C1330466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4E1E-D3A3-4828-AC4D-8A9E897D1E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4750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不 进 位 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6520" y="1816200"/>
            <a:ext cx="91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内容占位符 5" descr="图片2.png"/>
          <p:cNvPicPr/>
          <p:nvPr/>
        </p:nvPicPr>
        <p:blipFill>
          <a:blip r:embed="rId1"/>
          <a:stretch/>
        </p:blipFill>
        <p:spPr>
          <a:xfrm>
            <a:off x="500040" y="1779480"/>
            <a:ext cx="3780000" cy="1500120"/>
          </a:xfrm>
          <a:prstGeom prst="rect">
            <a:avLst/>
          </a:prstGeom>
          <a:ln w="0">
            <a:noFill/>
          </a:ln>
        </p:spPr>
      </p:pic>
      <p:sp>
        <p:nvSpPr>
          <p:cNvPr id="999" name="TextBox 6"/>
          <p:cNvSpPr/>
          <p:nvPr/>
        </p:nvSpPr>
        <p:spPr>
          <a:xfrm>
            <a:off x="2150640" y="843120"/>
            <a:ext cx="41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班和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班一共有多少名学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图片 7" descr="REJA9.tif"/>
          <p:cNvPicPr/>
          <p:nvPr/>
        </p:nvPicPr>
        <p:blipFill>
          <a:blip r:embed="rId2"/>
          <a:stretch/>
        </p:blipFill>
        <p:spPr>
          <a:xfrm>
            <a:off x="4857840" y="1785960"/>
            <a:ext cx="3860640" cy="1393920"/>
          </a:xfrm>
          <a:prstGeom prst="rect">
            <a:avLst/>
          </a:prstGeom>
          <a:ln w="0">
            <a:noFill/>
          </a:ln>
        </p:spPr>
      </p:pic>
      <p:grpSp>
        <p:nvGrpSpPr>
          <p:cNvPr id="10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02" name="圆角矩形 1" descr=""/>
            <p:cNvPicPr/>
            <p:nvPr/>
          </p:nvPicPr>
          <p:blipFill>
            <a:blip r:embed="rId3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5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2" name="Rectangle 64"/>
          <p:cNvSpPr/>
          <p:nvPr/>
        </p:nvSpPr>
        <p:spPr>
          <a:xfrm>
            <a:off x="509760" y="15732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一、探究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八边形 2"/>
          <p:cNvSpPr/>
          <p:nvPr/>
        </p:nvSpPr>
        <p:spPr>
          <a:xfrm>
            <a:off x="314280" y="7794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9"/>
          <p:cNvGrpSpPr/>
          <p:nvPr/>
        </p:nvGrpSpPr>
        <p:grpSpPr>
          <a:xfrm>
            <a:off x="365040" y="3560760"/>
            <a:ext cx="8310600" cy="1540080"/>
            <a:chOff x="365040" y="3560760"/>
            <a:chExt cx="8310600" cy="1540080"/>
          </a:xfrm>
        </p:grpSpPr>
        <p:grpSp>
          <p:nvGrpSpPr>
            <p:cNvPr id="1015" name="组合 3"/>
            <p:cNvGrpSpPr/>
            <p:nvPr/>
          </p:nvGrpSpPr>
          <p:grpSpPr>
            <a:xfrm>
              <a:off x="365040" y="3560760"/>
              <a:ext cx="1884240" cy="459720"/>
              <a:chOff x="365040" y="3560760"/>
              <a:chExt cx="1884240" cy="459720"/>
            </a:xfrm>
          </p:grpSpPr>
          <p:sp>
            <p:nvSpPr>
              <p:cNvPr id="1016" name="TextBox 3"/>
              <p:cNvSpPr/>
              <p:nvPr/>
            </p:nvSpPr>
            <p:spPr>
              <a:xfrm>
                <a:off x="469440" y="3560760"/>
                <a:ext cx="177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理解题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缺角矩形 37"/>
              <p:cNvSpPr/>
              <p:nvPr/>
            </p:nvSpPr>
            <p:spPr>
              <a:xfrm>
                <a:off x="365040" y="368136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文本框 8"/>
            <p:cNvSpPr/>
            <p:nvPr/>
          </p:nvSpPr>
          <p:spPr>
            <a:xfrm>
              <a:off x="586440" y="4275360"/>
              <a:ext cx="808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二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班有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，二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班有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，两班一共有多少名学生，就是把两个班的人数合起来，用加法计算，列式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+3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4" descr="图形3.tif"/>
          <p:cNvPicPr/>
          <p:nvPr/>
        </p:nvPicPr>
        <p:blipFill>
          <a:blip r:embed="rId1"/>
          <a:stretch/>
        </p:blipFill>
        <p:spPr>
          <a:xfrm>
            <a:off x="355680" y="4030560"/>
            <a:ext cx="6762600" cy="1089000"/>
          </a:xfrm>
          <a:prstGeom prst="rect">
            <a:avLst/>
          </a:prstGeom>
          <a:ln w="0">
            <a:noFill/>
          </a:ln>
        </p:spPr>
      </p:pic>
      <p:sp>
        <p:nvSpPr>
          <p:cNvPr id="1020" name="TextBox 6"/>
          <p:cNvSpPr/>
          <p:nvPr/>
        </p:nvSpPr>
        <p:spPr>
          <a:xfrm>
            <a:off x="2036880" y="7556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一：口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组合 38"/>
          <p:cNvGrpSpPr/>
          <p:nvPr/>
        </p:nvGrpSpPr>
        <p:grpSpPr>
          <a:xfrm>
            <a:off x="235080" y="749160"/>
            <a:ext cx="2147400" cy="459720"/>
            <a:chOff x="235080" y="749160"/>
            <a:chExt cx="2147400" cy="459720"/>
          </a:xfrm>
        </p:grpSpPr>
        <p:sp>
          <p:nvSpPr>
            <p:cNvPr id="1022" name="TextBox 3"/>
            <p:cNvSpPr/>
            <p:nvPr/>
          </p:nvSpPr>
          <p:spPr>
            <a:xfrm>
              <a:off x="339480" y="74916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缺角矩形 40"/>
            <p:cNvSpPr/>
            <p:nvPr/>
          </p:nvSpPr>
          <p:spPr>
            <a:xfrm>
              <a:off x="235080" y="86976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4" name="内容占位符 4" descr="图形4.tif"/>
          <p:cNvPicPr/>
          <p:nvPr/>
        </p:nvPicPr>
        <p:blipFill>
          <a:blip r:embed="rId2"/>
          <a:stretch/>
        </p:blipFill>
        <p:spPr>
          <a:xfrm>
            <a:off x="2600280" y="1449360"/>
            <a:ext cx="3527640" cy="110952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8" descr="REJA8B.tif"/>
          <p:cNvPicPr/>
          <p:nvPr/>
        </p:nvPicPr>
        <p:blipFill>
          <a:blip r:embed="rId3"/>
          <a:stretch/>
        </p:blipFill>
        <p:spPr>
          <a:xfrm>
            <a:off x="2633760" y="2700360"/>
            <a:ext cx="2658960" cy="1071720"/>
          </a:xfrm>
          <a:prstGeom prst="rect">
            <a:avLst/>
          </a:prstGeom>
          <a:ln w="0">
            <a:noFill/>
          </a:ln>
        </p:spPr>
      </p:pic>
      <p:sp>
        <p:nvSpPr>
          <p:cNvPr id="1026" name="直接连接符 9"/>
          <p:cNvSpPr/>
          <p:nvPr/>
        </p:nvSpPr>
        <p:spPr>
          <a:xfrm>
            <a:off x="258840" y="3838680"/>
            <a:ext cx="73897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10"/>
          <p:cNvSpPr/>
          <p:nvPr/>
        </p:nvSpPr>
        <p:spPr>
          <a:xfrm>
            <a:off x="4667400" y="1425600"/>
            <a:ext cx="0" cy="3817800"/>
          </a:xfrm>
          <a:prstGeom prst="line">
            <a:avLst/>
          </a:prstGeom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12"/>
          <p:cNvSpPr/>
          <p:nvPr/>
        </p:nvSpPr>
        <p:spPr>
          <a:xfrm>
            <a:off x="1231920" y="5079960"/>
            <a:ext cx="29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+30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文本框 14"/>
          <p:cNvSpPr/>
          <p:nvPr/>
        </p:nvSpPr>
        <p:spPr>
          <a:xfrm>
            <a:off x="5376960" y="5046840"/>
            <a:ext cx="29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+2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文本框 15"/>
          <p:cNvSpPr/>
          <p:nvPr/>
        </p:nvSpPr>
        <p:spPr>
          <a:xfrm>
            <a:off x="3814920" y="5686560"/>
            <a:ext cx="27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0+7=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Box 3"/>
          <p:cNvSpPr/>
          <p:nvPr/>
        </p:nvSpPr>
        <p:spPr>
          <a:xfrm>
            <a:off x="533520" y="865080"/>
            <a:ext cx="42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二：竖式计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组合 10"/>
          <p:cNvGrpSpPr/>
          <p:nvPr/>
        </p:nvGrpSpPr>
        <p:grpSpPr>
          <a:xfrm>
            <a:off x="620640" y="1671480"/>
            <a:ext cx="1774800" cy="1373760"/>
            <a:chOff x="620640" y="1671480"/>
            <a:chExt cx="1774800" cy="1373760"/>
          </a:xfrm>
        </p:grpSpPr>
        <p:sp>
          <p:nvSpPr>
            <p:cNvPr id="1033" name="文本框 2"/>
            <p:cNvSpPr/>
            <p:nvPr/>
          </p:nvSpPr>
          <p:spPr>
            <a:xfrm>
              <a:off x="620640" y="1671480"/>
              <a:ext cx="1774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400" spc="-1" strike="noStrike">
                  <a:solidFill>
                    <a:srgbClr val="0070c0"/>
                  </a:solidFill>
                  <a:latin typeface="Arial"/>
                  <a:ea typeface="宋体"/>
                </a:rPr>
                <a:t>十  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 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  3   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直接连接符 3"/>
            <p:cNvSpPr/>
            <p:nvPr/>
          </p:nvSpPr>
          <p:spPr>
            <a:xfrm>
              <a:off x="746280" y="3004920"/>
              <a:ext cx="15642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组合 12"/>
          <p:cNvGrpSpPr/>
          <p:nvPr/>
        </p:nvGrpSpPr>
        <p:grpSpPr>
          <a:xfrm>
            <a:off x="3449520" y="1671480"/>
            <a:ext cx="1776600" cy="1800360"/>
            <a:chOff x="3449520" y="1671480"/>
            <a:chExt cx="1776600" cy="1800360"/>
          </a:xfrm>
        </p:grpSpPr>
        <p:sp>
          <p:nvSpPr>
            <p:cNvPr id="1036" name="文本框 4"/>
            <p:cNvSpPr/>
            <p:nvPr/>
          </p:nvSpPr>
          <p:spPr>
            <a:xfrm>
              <a:off x="3449520" y="1671480"/>
              <a:ext cx="1776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400" spc="-1" strike="noStrike">
                  <a:solidFill>
                    <a:srgbClr val="0070c0"/>
                  </a:solidFill>
                  <a:latin typeface="Arial"/>
                  <a:ea typeface="宋体"/>
                </a:rPr>
                <a:t>十  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 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  3   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直接连接符 6"/>
            <p:cNvSpPr/>
            <p:nvPr/>
          </p:nvSpPr>
          <p:spPr>
            <a:xfrm>
              <a:off x="3575160" y="3005280"/>
              <a:ext cx="156564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组合 14"/>
          <p:cNvGrpSpPr/>
          <p:nvPr/>
        </p:nvGrpSpPr>
        <p:grpSpPr>
          <a:xfrm>
            <a:off x="6280200" y="1671480"/>
            <a:ext cx="1774800" cy="1800360"/>
            <a:chOff x="6280200" y="1671480"/>
            <a:chExt cx="1774800" cy="1800360"/>
          </a:xfrm>
        </p:grpSpPr>
        <p:sp>
          <p:nvSpPr>
            <p:cNvPr id="1039" name="文本框 7"/>
            <p:cNvSpPr/>
            <p:nvPr/>
          </p:nvSpPr>
          <p:spPr>
            <a:xfrm>
              <a:off x="6280200" y="1671480"/>
              <a:ext cx="1774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400" spc="-1" strike="noStrike">
                  <a:solidFill>
                    <a:srgbClr val="0070c0"/>
                  </a:solidFill>
                  <a:latin typeface="Arial"/>
                  <a:ea typeface="宋体"/>
                </a:rPr>
                <a:t>十  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 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  3  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  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直接连接符 9"/>
            <p:cNvSpPr/>
            <p:nvPr/>
          </p:nvSpPr>
          <p:spPr>
            <a:xfrm>
              <a:off x="6405840" y="3005280"/>
              <a:ext cx="15642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41" name="直接箭头连接符 15"/>
          <p:cNvCxnSpPr/>
          <p:nvPr/>
        </p:nvCxnSpPr>
        <p:spPr>
          <a:xfrm flipV="1">
            <a:off x="2666880" y="2748960"/>
            <a:ext cx="594720" cy="1080"/>
          </a:xfrm>
          <a:prstGeom prst="straightConnector1">
            <a:avLst/>
          </a:prstGeom>
          <a:ln w="158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42" name="直接箭头连接符 16"/>
          <p:cNvCxnSpPr/>
          <p:nvPr/>
        </p:nvCxnSpPr>
        <p:spPr>
          <a:xfrm flipV="1">
            <a:off x="5481360" y="2743920"/>
            <a:ext cx="594360" cy="1080"/>
          </a:xfrm>
          <a:prstGeom prst="straightConnector1">
            <a:avLst/>
          </a:prstGeom>
          <a:ln w="15840">
            <a:solidFill>
              <a:srgbClr val="00b050"/>
            </a:solidFill>
            <a:miter/>
            <a:tailEnd len="med" type="arrow" w="med"/>
          </a:ln>
        </p:spPr>
      </p:cxnSp>
      <p:grpSp>
        <p:nvGrpSpPr>
          <p:cNvPr id="1043" name="组合 26"/>
          <p:cNvGrpSpPr/>
          <p:nvPr/>
        </p:nvGrpSpPr>
        <p:grpSpPr>
          <a:xfrm>
            <a:off x="1046160" y="3061800"/>
            <a:ext cx="927000" cy="1443240"/>
            <a:chOff x="1046160" y="3061800"/>
            <a:chExt cx="927000" cy="1443240"/>
          </a:xfrm>
        </p:grpSpPr>
        <p:cxnSp>
          <p:nvCxnSpPr>
            <p:cNvPr id="1044" name="直接箭头连接符 18"/>
            <p:cNvCxnSpPr/>
            <p:nvPr/>
          </p:nvCxnSpPr>
          <p:spPr>
            <a:xfrm flipH="1" flipV="1">
              <a:off x="1515240" y="3061800"/>
              <a:ext cx="1080" cy="82584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045" name="矩形 19"/>
            <p:cNvSpPr/>
            <p:nvPr/>
          </p:nvSpPr>
          <p:spPr>
            <a:xfrm>
              <a:off x="1046160" y="3863160"/>
              <a:ext cx="927000" cy="641880"/>
            </a:xfrm>
            <a:prstGeom prst="rect">
              <a:avLst/>
            </a:prstGeom>
            <a:solidFill>
              <a:srgbClr val="9beb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相同数位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组合 28"/>
          <p:cNvGrpSpPr/>
          <p:nvPr/>
        </p:nvGrpSpPr>
        <p:grpSpPr>
          <a:xfrm>
            <a:off x="4327560" y="3369960"/>
            <a:ext cx="927000" cy="1139760"/>
            <a:chOff x="4327560" y="3369960"/>
            <a:chExt cx="927000" cy="1139760"/>
          </a:xfrm>
        </p:grpSpPr>
        <p:sp>
          <p:nvSpPr>
            <p:cNvPr id="1047" name="矩形 24"/>
            <p:cNvSpPr/>
            <p:nvPr/>
          </p:nvSpPr>
          <p:spPr>
            <a:xfrm>
              <a:off x="4327560" y="3868920"/>
              <a:ext cx="927000" cy="640800"/>
            </a:xfrm>
            <a:prstGeom prst="rect">
              <a:avLst/>
            </a:prstGeom>
            <a:solidFill>
              <a:srgbClr val="9beb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先从个位加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8" name="直接箭头连接符 25"/>
            <p:cNvCxnSpPr/>
            <p:nvPr/>
          </p:nvCxnSpPr>
          <p:spPr>
            <a:xfrm flipH="1" flipV="1">
              <a:off x="4791600" y="3369960"/>
              <a:ext cx="1080" cy="50184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049" name="组合 36"/>
          <p:cNvGrpSpPr/>
          <p:nvPr/>
        </p:nvGrpSpPr>
        <p:grpSpPr>
          <a:xfrm>
            <a:off x="6845400" y="3431880"/>
            <a:ext cx="696960" cy="1133640"/>
            <a:chOff x="6845400" y="3431880"/>
            <a:chExt cx="696960" cy="1133640"/>
          </a:xfrm>
        </p:grpSpPr>
        <p:sp>
          <p:nvSpPr>
            <p:cNvPr id="1050" name="矩形 27"/>
            <p:cNvSpPr/>
            <p:nvPr/>
          </p:nvSpPr>
          <p:spPr>
            <a:xfrm>
              <a:off x="6845400" y="3924360"/>
              <a:ext cx="696960" cy="641160"/>
            </a:xfrm>
            <a:prstGeom prst="rect">
              <a:avLst/>
            </a:prstGeom>
            <a:solidFill>
              <a:srgbClr val="9beb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再算十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1" name="直接箭头连接符 35"/>
            <p:cNvCxnSpPr/>
            <p:nvPr/>
          </p:nvCxnSpPr>
          <p:spPr>
            <a:xfrm flipH="1" flipV="1">
              <a:off x="7183800" y="3431880"/>
              <a:ext cx="1080" cy="50184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  <a:tailEnd len="med" type="arrow" w="med"/>
            </a:ln>
          </p:spPr>
        </p:cxnSp>
      </p:grpSp>
      <p:sp>
        <p:nvSpPr>
          <p:cNvPr id="1052" name="矩形 37"/>
          <p:cNvSpPr/>
          <p:nvPr/>
        </p:nvSpPr>
        <p:spPr>
          <a:xfrm>
            <a:off x="684360" y="1557360"/>
            <a:ext cx="4535280" cy="2087640"/>
          </a:xfrm>
          <a:prstGeom prst="rect">
            <a:avLst/>
          </a:prstGeom>
          <a:noFill/>
          <a:ln w="12600">
            <a:solidFill>
              <a:srgbClr val="9595b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组合 41"/>
          <p:cNvGrpSpPr/>
          <p:nvPr/>
        </p:nvGrpSpPr>
        <p:grpSpPr>
          <a:xfrm>
            <a:off x="363600" y="4888080"/>
            <a:ext cx="2147400" cy="459720"/>
            <a:chOff x="363600" y="4888080"/>
            <a:chExt cx="2147400" cy="459720"/>
          </a:xfrm>
        </p:grpSpPr>
        <p:sp>
          <p:nvSpPr>
            <p:cNvPr id="1054" name="TextBox 3"/>
            <p:cNvSpPr/>
            <p:nvPr/>
          </p:nvSpPr>
          <p:spPr>
            <a:xfrm>
              <a:off x="468000" y="488808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规范解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缺角矩形 43"/>
            <p:cNvSpPr/>
            <p:nvPr/>
          </p:nvSpPr>
          <p:spPr>
            <a:xfrm>
              <a:off x="363600" y="500868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文本框 39"/>
          <p:cNvSpPr/>
          <p:nvPr/>
        </p:nvSpPr>
        <p:spPr>
          <a:xfrm>
            <a:off x="576360" y="5264280"/>
            <a:ext cx="32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+32=67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：两班一共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6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8" name="Rectangle 64"/>
          <p:cNvSpPr/>
          <p:nvPr/>
        </p:nvSpPr>
        <p:spPr>
          <a:xfrm>
            <a:off x="525600" y="14940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图片 2" descr=""/>
          <p:cNvPicPr/>
          <p:nvPr/>
        </p:nvPicPr>
        <p:blipFill>
          <a:blip r:embed="rId8"/>
          <a:stretch/>
        </p:blipFill>
        <p:spPr>
          <a:xfrm>
            <a:off x="1046160" y="1495440"/>
            <a:ext cx="2639880" cy="1154160"/>
          </a:xfrm>
          <a:prstGeom prst="rect">
            <a:avLst/>
          </a:prstGeom>
          <a:ln w="0">
            <a:noFill/>
          </a:ln>
        </p:spPr>
      </p:pic>
      <p:grpSp>
        <p:nvGrpSpPr>
          <p:cNvPr id="1070" name="组合 4"/>
          <p:cNvGrpSpPr/>
          <p:nvPr/>
        </p:nvGrpSpPr>
        <p:grpSpPr>
          <a:xfrm>
            <a:off x="674640" y="2712960"/>
            <a:ext cx="2941560" cy="1152720"/>
            <a:chOff x="674640" y="2712960"/>
            <a:chExt cx="2941560" cy="1152720"/>
          </a:xfrm>
        </p:grpSpPr>
        <p:pic>
          <p:nvPicPr>
            <p:cNvPr id="1071" name="图片 3" descr=""/>
            <p:cNvPicPr/>
            <p:nvPr/>
          </p:nvPicPr>
          <p:blipFill>
            <a:blip r:embed="rId9"/>
            <a:stretch/>
          </p:blipFill>
          <p:spPr>
            <a:xfrm>
              <a:off x="976320" y="2712960"/>
              <a:ext cx="263988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内容占位符 4" descr="图形4.tif"/>
            <p:cNvPicPr/>
            <p:nvPr/>
          </p:nvPicPr>
          <p:blipFill>
            <a:blip r:embed="rId10"/>
            <a:srcRect l="0" t="0" r="81480" b="0"/>
            <a:stretch/>
          </p:blipFill>
          <p:spPr>
            <a:xfrm>
              <a:off x="674640" y="2935440"/>
              <a:ext cx="485280" cy="82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3" name="文本框 6"/>
          <p:cNvSpPr/>
          <p:nvPr/>
        </p:nvSpPr>
        <p:spPr>
          <a:xfrm>
            <a:off x="676440" y="819000"/>
            <a:ext cx="39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一摆，算一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组合 9"/>
          <p:cNvGrpSpPr/>
          <p:nvPr/>
        </p:nvGrpSpPr>
        <p:grpSpPr>
          <a:xfrm>
            <a:off x="4929120" y="1822320"/>
            <a:ext cx="1641600" cy="2013120"/>
            <a:chOff x="4929120" y="1822320"/>
            <a:chExt cx="1641600" cy="2013120"/>
          </a:xfrm>
        </p:grpSpPr>
        <p:sp>
          <p:nvSpPr>
            <p:cNvPr id="1075" name="文本框 7"/>
            <p:cNvSpPr/>
            <p:nvPr/>
          </p:nvSpPr>
          <p:spPr>
            <a:xfrm>
              <a:off x="4929120" y="1822320"/>
              <a:ext cx="16416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直接连接符 8"/>
            <p:cNvSpPr/>
            <p:nvPr/>
          </p:nvSpPr>
          <p:spPr>
            <a:xfrm>
              <a:off x="4968720" y="3293280"/>
              <a:ext cx="1565280" cy="0"/>
            </a:xfrm>
            <a:prstGeom prst="line">
              <a:avLst/>
            </a:prstGeom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文本框 10"/>
          <p:cNvSpPr/>
          <p:nvPr/>
        </p:nvSpPr>
        <p:spPr>
          <a:xfrm>
            <a:off x="5483160" y="2001960"/>
            <a:ext cx="9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12"/>
          <p:cNvSpPr/>
          <p:nvPr/>
        </p:nvSpPr>
        <p:spPr>
          <a:xfrm>
            <a:off x="5475240" y="264636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14"/>
          <p:cNvSpPr/>
          <p:nvPr/>
        </p:nvSpPr>
        <p:spPr>
          <a:xfrm>
            <a:off x="5499000" y="3282840"/>
            <a:ext cx="9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1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32"/>
          <p:cNvSpPr/>
          <p:nvPr/>
        </p:nvSpPr>
        <p:spPr>
          <a:xfrm>
            <a:off x="355680" y="1389240"/>
            <a:ext cx="84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笔算两位数加两位数（不进位加）时，要把相同数位对齐，从个位加起，个位上的数相加得到的数写在得数的个位上，十位上的数相加得到的数写在得数的十位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4" name="Rectangle 64"/>
          <p:cNvSpPr/>
          <p:nvPr/>
        </p:nvSpPr>
        <p:spPr>
          <a:xfrm>
            <a:off x="525600" y="14940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组合 9"/>
          <p:cNvGrpSpPr/>
          <p:nvPr/>
        </p:nvGrpSpPr>
        <p:grpSpPr>
          <a:xfrm>
            <a:off x="911160" y="1876320"/>
            <a:ext cx="1641600" cy="2013120"/>
            <a:chOff x="911160" y="1876320"/>
            <a:chExt cx="1641600" cy="2013120"/>
          </a:xfrm>
        </p:grpSpPr>
        <p:sp>
          <p:nvSpPr>
            <p:cNvPr id="1106" name="文本框 7"/>
            <p:cNvSpPr/>
            <p:nvPr/>
          </p:nvSpPr>
          <p:spPr>
            <a:xfrm>
              <a:off x="911160" y="1876320"/>
              <a:ext cx="16416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直接连接符 8"/>
            <p:cNvSpPr/>
            <p:nvPr/>
          </p:nvSpPr>
          <p:spPr>
            <a:xfrm>
              <a:off x="950760" y="3347280"/>
              <a:ext cx="1565280" cy="0"/>
            </a:xfrm>
            <a:prstGeom prst="line">
              <a:avLst/>
            </a:prstGeom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1"/>
          <p:cNvGrpSpPr/>
          <p:nvPr/>
        </p:nvGrpSpPr>
        <p:grpSpPr>
          <a:xfrm>
            <a:off x="3570120" y="1876320"/>
            <a:ext cx="1641600" cy="2013120"/>
            <a:chOff x="3570120" y="1876320"/>
            <a:chExt cx="1641600" cy="2013120"/>
          </a:xfrm>
        </p:grpSpPr>
        <p:sp>
          <p:nvSpPr>
            <p:cNvPr id="1109" name="文本框 15"/>
            <p:cNvSpPr/>
            <p:nvPr/>
          </p:nvSpPr>
          <p:spPr>
            <a:xfrm>
              <a:off x="3570120" y="1876320"/>
              <a:ext cx="16416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直接连接符 16"/>
            <p:cNvSpPr/>
            <p:nvPr/>
          </p:nvSpPr>
          <p:spPr>
            <a:xfrm>
              <a:off x="3609720" y="3347280"/>
              <a:ext cx="1565280" cy="0"/>
            </a:xfrm>
            <a:prstGeom prst="line">
              <a:avLst/>
            </a:prstGeom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17"/>
          <p:cNvGrpSpPr/>
          <p:nvPr/>
        </p:nvGrpSpPr>
        <p:grpSpPr>
          <a:xfrm>
            <a:off x="6229440" y="1876320"/>
            <a:ext cx="1641240" cy="2013120"/>
            <a:chOff x="6229440" y="1876320"/>
            <a:chExt cx="1641240" cy="2013120"/>
          </a:xfrm>
        </p:grpSpPr>
        <p:sp>
          <p:nvSpPr>
            <p:cNvPr id="1112" name="文本框 18"/>
            <p:cNvSpPr/>
            <p:nvPr/>
          </p:nvSpPr>
          <p:spPr>
            <a:xfrm>
              <a:off x="6229440" y="1876320"/>
              <a:ext cx="164124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直接连接符 19"/>
            <p:cNvSpPr/>
            <p:nvPr/>
          </p:nvSpPr>
          <p:spPr>
            <a:xfrm>
              <a:off x="6269040" y="3347280"/>
              <a:ext cx="1565280" cy="0"/>
            </a:xfrm>
            <a:prstGeom prst="line">
              <a:avLst/>
            </a:prstGeom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文本框 20"/>
          <p:cNvSpPr/>
          <p:nvPr/>
        </p:nvSpPr>
        <p:spPr>
          <a:xfrm>
            <a:off x="1119240" y="11955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+6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21"/>
          <p:cNvSpPr/>
          <p:nvPr/>
        </p:nvSpPr>
        <p:spPr>
          <a:xfrm>
            <a:off x="3801960" y="1195560"/>
            <a:ext cx="15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+2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22"/>
          <p:cNvSpPr/>
          <p:nvPr/>
        </p:nvSpPr>
        <p:spPr>
          <a:xfrm>
            <a:off x="6486480" y="11955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+4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23"/>
          <p:cNvSpPr/>
          <p:nvPr/>
        </p:nvSpPr>
        <p:spPr>
          <a:xfrm>
            <a:off x="1465200" y="2055960"/>
            <a:ext cx="9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24"/>
          <p:cNvSpPr/>
          <p:nvPr/>
        </p:nvSpPr>
        <p:spPr>
          <a:xfrm>
            <a:off x="1457280" y="268452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25"/>
          <p:cNvSpPr/>
          <p:nvPr/>
        </p:nvSpPr>
        <p:spPr>
          <a:xfrm>
            <a:off x="1467000" y="333684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26"/>
          <p:cNvSpPr/>
          <p:nvPr/>
        </p:nvSpPr>
        <p:spPr>
          <a:xfrm>
            <a:off x="4132440" y="205596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27"/>
          <p:cNvSpPr/>
          <p:nvPr/>
        </p:nvSpPr>
        <p:spPr>
          <a:xfrm>
            <a:off x="4124160" y="268452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28"/>
          <p:cNvSpPr/>
          <p:nvPr/>
        </p:nvSpPr>
        <p:spPr>
          <a:xfrm>
            <a:off x="4133880" y="333684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5"/>
          <p:cNvSpPr/>
          <p:nvPr/>
        </p:nvSpPr>
        <p:spPr>
          <a:xfrm>
            <a:off x="6799320" y="205596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36"/>
          <p:cNvSpPr/>
          <p:nvPr/>
        </p:nvSpPr>
        <p:spPr>
          <a:xfrm>
            <a:off x="6791400" y="268452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37"/>
          <p:cNvSpPr/>
          <p:nvPr/>
        </p:nvSpPr>
        <p:spPr>
          <a:xfrm>
            <a:off x="6800760" y="333684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38"/>
          <p:cNvSpPr/>
          <p:nvPr/>
        </p:nvSpPr>
        <p:spPr>
          <a:xfrm>
            <a:off x="2382840" y="1189080"/>
            <a:ext cx="5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39"/>
          <p:cNvSpPr/>
          <p:nvPr/>
        </p:nvSpPr>
        <p:spPr>
          <a:xfrm>
            <a:off x="5043600" y="1181160"/>
            <a:ext cx="5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40"/>
          <p:cNvSpPr/>
          <p:nvPr/>
        </p:nvSpPr>
        <p:spPr>
          <a:xfrm>
            <a:off x="7746840" y="118728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0" name=""/>
          <p:cNvSpPr txBox="1"/>
          <p:nvPr/>
        </p:nvSpPr>
        <p:spPr>
          <a:xfrm>
            <a:off x="365040" y="136692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田爷爷说：我今天买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西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红爷爷说：我买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聪明的你，能帮他们算一算，他们一共买了多少个西瓜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4"/>
          <p:cNvSpPr/>
          <p:nvPr/>
        </p:nvSpPr>
        <p:spPr>
          <a:xfrm>
            <a:off x="436680" y="115920"/>
            <a:ext cx="264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后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25"/>
          <p:cNvSpPr/>
          <p:nvPr/>
        </p:nvSpPr>
        <p:spPr>
          <a:xfrm>
            <a:off x="441360" y="3479760"/>
            <a:ext cx="815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42+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5=57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他们一共买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7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个西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8:12Z</dcterms:modified>
  <cp:revision>1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